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2DC8-E655-4244-B50C-5A9C1034A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y working out the positive number multiplications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,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,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 and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he answer to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using the number pattern in the table, or using the rules from the previous slide, and fill in the rest of the row to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 in the same order for the next 2 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hat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y number is 0 and fill in this row accordin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last three rows fill in the first answer by looking at the pattern in the first column and continue along the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revealing each answer ensure that the question corresponding to that cell has been clearly stated. 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at is 1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pils may then look for number patterns to deduce the answer or use the rules on the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table is complete, ask pupils to point out any patterns they notice. Shade the negative numbers blue and shade the positive numbers g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o use the table to answer some given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se the table to work out –2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–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have been drawn graphically to make it easier for pupils to spot the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ch rule appears read it as,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positive number multiplied by a positive number always equals a positiv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pupils of the meaning of ‘inverse operation’ – one ‘undoes’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3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then –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must equal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l pupils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easiest way to remember these rules is that when we multiply together (or divide) two numbers with different signs (a positive number times a negative number or a negative number times a positive number) the answer will always be negative. If we multiply together (or divide) two numbers with the same sign (a positive number times a positive number or a negative number times a negative number) the answer will always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pupils to first work out whether their answers will be positive or negative, and then multiply or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o write down rules for multiplying (or dividing) thre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negati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 negative = positive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 negative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y working out the positive number multiplications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,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,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 and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he answer to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using the number pattern in the table, or using the rules from the previous slide, and fill in the rest of the row to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 in the same order for the next 2 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hat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y number is 0 and fill in this row accordin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last three rows fill in the first answer by looking at the pattern in the first column and continue along the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revealing each answer ensure that the question corresponding to that cell has been clearly stated. 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at is 1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pils may then look for number patterns to deduce the answer or use the rules on the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table is complete, ask pupils to point out any patterns they notice. Shade the negative numbers blue and shade the positive numbers g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o use the table to answer some given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se the table to work out –2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–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towards the centre of the spiral to reveal the picture of a snail bl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E17-5720-4168-8D73-64B732BD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B59-79FA-436C-9F54-EAC274E2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1D3-D92B-4695-AA0A-AC71F26C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E77-4D19-42DF-B674-C1E1A3F3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07B-5075-4657-B0D8-C4D23E6C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F63-A54D-4349-BF14-678C8B6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B0D-6608-4EB9-9F06-6EFCA4C2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38C-FDC4-4113-ABDA-003313AE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320-54B9-4F33-8BE8-829F1800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EE9-051A-48DE-B1AC-0552318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843-47B7-4FD0-B9DB-F041CC39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F58-E2EF-4617-893A-5210CA3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016-300B-4014-BDFB-A6814F39CA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9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8366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98900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2781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and divide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ers,       -   whole  numbers  1, 2, 3, 4 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4724280"/>
            <a:ext cx="64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,            work out,          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an to work out the answer,     do not use a calcula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304040" y="115920"/>
            <a:ext cx="576360" cy="576360"/>
            <a:chOff x="7304040" y="115920"/>
            <a:chExt cx="576360" cy="576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364520" y="17136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304040" y="115920"/>
              <a:ext cx="576360" cy="57636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8680" y="168120"/>
              <a:ext cx="468000" cy="468360"/>
            </a:xfrm>
            <a:prstGeom prst="ellipse">
              <a:avLst/>
            </a:prstGeom>
            <a:noFill/>
            <a:ln w="255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68565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Ordered multiplicatio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927000"/>
            <a:ext cx="8491320" cy="515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ShockwaveFlash1"/>
          <p:cNvGraphicFramePr/>
          <p:nvPr/>
        </p:nvGraphicFramePr>
        <p:xfrm>
          <a:off x="0" y="914400"/>
          <a:ext cx="9144000" cy="51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91440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7"/>
          <a:srcRect l="3345" t="15471" r="3345" b="13976"/>
          <a:stretch/>
        </p:blipFill>
        <p:spPr>
          <a:xfrm>
            <a:off x="324000" y="907920"/>
            <a:ext cx="8569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79280" y="6078600"/>
            <a:ext cx="542880" cy="57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8560" y="990720"/>
            <a:ext cx="65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multiplying negative numbers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61293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Rules for multiplying and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080" y="349236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Dividing is the inverse operation to multipl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800" y="4017960"/>
            <a:ext cx="82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we are dividing negative numbers similar rules app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97080" y="1515960"/>
            <a:ext cx="2265480" cy="459720"/>
            <a:chOff x="3097080" y="1515960"/>
            <a:chExt cx="2265480" cy="459720"/>
          </a:xfrm>
        </p:grpSpPr>
        <p:grpSp>
          <p:nvGrpSpPr>
            <p:cNvPr id="77" name=""/>
            <p:cNvGrpSpPr/>
            <p:nvPr/>
          </p:nvGrpSpPr>
          <p:grpSpPr>
            <a:xfrm>
              <a:off x="3097080" y="1515960"/>
              <a:ext cx="360360" cy="459720"/>
              <a:chOff x="3097080" y="1515960"/>
              <a:chExt cx="360360" cy="459720"/>
            </a:xfrm>
          </p:grpSpPr>
          <p:sp>
            <p:nvSpPr>
              <p:cNvPr id="78" name=""/>
              <p:cNvSpPr/>
              <p:nvPr/>
            </p:nvSpPr>
            <p:spPr>
              <a:xfrm>
                <a:off x="3097080" y="15746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98520" y="15159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74800" y="1515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49640" y="1515960"/>
              <a:ext cx="360360" cy="459720"/>
              <a:chOff x="4049640" y="1515960"/>
              <a:chExt cx="360360" cy="459720"/>
            </a:xfrm>
          </p:grpSpPr>
          <p:sp>
            <p:nvSpPr>
              <p:cNvPr id="82" name=""/>
              <p:cNvSpPr/>
              <p:nvPr/>
            </p:nvSpPr>
            <p:spPr>
              <a:xfrm>
                <a:off x="4049640" y="15746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51080" y="15159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4527360" y="1515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02200" y="1515960"/>
              <a:ext cx="360360" cy="459720"/>
              <a:chOff x="5002200" y="1515960"/>
              <a:chExt cx="360360" cy="459720"/>
            </a:xfrm>
          </p:grpSpPr>
          <p:sp>
            <p:nvSpPr>
              <p:cNvPr id="86" name=""/>
              <p:cNvSpPr/>
              <p:nvPr/>
            </p:nvSpPr>
            <p:spPr>
              <a:xfrm>
                <a:off x="5002200" y="15746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03640" y="15159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3097080" y="1998720"/>
            <a:ext cx="2266920" cy="461160"/>
            <a:chOff x="3097080" y="1998720"/>
            <a:chExt cx="2266920" cy="461160"/>
          </a:xfrm>
        </p:grpSpPr>
        <p:grpSp>
          <p:nvGrpSpPr>
            <p:cNvPr id="89" name=""/>
            <p:cNvGrpSpPr/>
            <p:nvPr/>
          </p:nvGrpSpPr>
          <p:grpSpPr>
            <a:xfrm>
              <a:off x="4049640" y="1998720"/>
              <a:ext cx="360360" cy="459720"/>
              <a:chOff x="4049640" y="1998720"/>
              <a:chExt cx="360360" cy="459720"/>
            </a:xfrm>
          </p:grpSpPr>
          <p:sp>
            <p:nvSpPr>
              <p:cNvPr id="90" name=""/>
              <p:cNvSpPr/>
              <p:nvPr/>
            </p:nvSpPr>
            <p:spPr>
              <a:xfrm>
                <a:off x="4049640" y="20811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3240" y="1998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3097080" y="1998720"/>
              <a:ext cx="360360" cy="459720"/>
              <a:chOff x="3097080" y="1998720"/>
              <a:chExt cx="360360" cy="459720"/>
            </a:xfrm>
          </p:grpSpPr>
          <p:sp>
            <p:nvSpPr>
              <p:cNvPr id="93" name=""/>
              <p:cNvSpPr/>
              <p:nvPr/>
            </p:nvSpPr>
            <p:spPr>
              <a:xfrm>
                <a:off x="3097080" y="205740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98520" y="1998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574800" y="1998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25920" y="1998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003640" y="2000160"/>
              <a:ext cx="360360" cy="459720"/>
              <a:chOff x="5003640" y="2000160"/>
              <a:chExt cx="360360" cy="459720"/>
            </a:xfrm>
          </p:grpSpPr>
          <p:sp>
            <p:nvSpPr>
              <p:cNvPr id="98" name=""/>
              <p:cNvSpPr/>
              <p:nvPr/>
            </p:nvSpPr>
            <p:spPr>
              <a:xfrm>
                <a:off x="5003640" y="20826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07240" y="2000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3097080" y="2482920"/>
            <a:ext cx="2266920" cy="459720"/>
            <a:chOff x="3097080" y="2482920"/>
            <a:chExt cx="2266920" cy="459720"/>
          </a:xfrm>
        </p:grpSpPr>
        <p:grpSp>
          <p:nvGrpSpPr>
            <p:cNvPr id="101" name=""/>
            <p:cNvGrpSpPr/>
            <p:nvPr/>
          </p:nvGrpSpPr>
          <p:grpSpPr>
            <a:xfrm>
              <a:off x="5003640" y="2482920"/>
              <a:ext cx="360360" cy="459720"/>
              <a:chOff x="5003640" y="2482920"/>
              <a:chExt cx="360360" cy="459720"/>
            </a:xfrm>
          </p:grpSpPr>
          <p:sp>
            <p:nvSpPr>
              <p:cNvPr id="102" name=""/>
              <p:cNvSpPr/>
              <p:nvPr/>
            </p:nvSpPr>
            <p:spPr>
              <a:xfrm>
                <a:off x="5003640" y="25653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07240" y="248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049640" y="2482920"/>
              <a:ext cx="360360" cy="459720"/>
              <a:chOff x="4049640" y="2482920"/>
              <a:chExt cx="360360" cy="459720"/>
            </a:xfrm>
          </p:grpSpPr>
          <p:sp>
            <p:nvSpPr>
              <p:cNvPr id="105" name=""/>
              <p:cNvSpPr/>
              <p:nvPr/>
            </p:nvSpPr>
            <p:spPr>
              <a:xfrm>
                <a:off x="4049640" y="254160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51080" y="24829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573360" y="2482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27360" y="2482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097080" y="2482920"/>
              <a:ext cx="360360" cy="459720"/>
              <a:chOff x="3097080" y="2482920"/>
              <a:chExt cx="360360" cy="459720"/>
            </a:xfrm>
          </p:grpSpPr>
          <p:sp>
            <p:nvSpPr>
              <p:cNvPr id="110" name=""/>
              <p:cNvSpPr/>
              <p:nvPr/>
            </p:nvSpPr>
            <p:spPr>
              <a:xfrm>
                <a:off x="3097080" y="25653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00680" y="248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3097080" y="2965320"/>
            <a:ext cx="2265480" cy="459720"/>
            <a:chOff x="3097080" y="2965320"/>
            <a:chExt cx="2265480" cy="459720"/>
          </a:xfrm>
        </p:grpSpPr>
        <p:grpSp>
          <p:nvGrpSpPr>
            <p:cNvPr id="113" name=""/>
            <p:cNvGrpSpPr/>
            <p:nvPr/>
          </p:nvGrpSpPr>
          <p:grpSpPr>
            <a:xfrm>
              <a:off x="4049640" y="2965320"/>
              <a:ext cx="360360" cy="459720"/>
              <a:chOff x="4049640" y="2965320"/>
              <a:chExt cx="360360" cy="459720"/>
            </a:xfrm>
          </p:grpSpPr>
          <p:sp>
            <p:nvSpPr>
              <p:cNvPr id="114" name=""/>
              <p:cNvSpPr/>
              <p:nvPr/>
            </p:nvSpPr>
            <p:spPr>
              <a:xfrm>
                <a:off x="4049640" y="30477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53240" y="2965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002200" y="2965320"/>
              <a:ext cx="360360" cy="459720"/>
              <a:chOff x="5002200" y="2965320"/>
              <a:chExt cx="360360" cy="459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002200" y="302400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03640" y="2965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573360" y="2965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27360" y="2965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097080" y="2965320"/>
              <a:ext cx="360360" cy="459720"/>
              <a:chOff x="3097080" y="2965320"/>
              <a:chExt cx="360360" cy="459720"/>
            </a:xfrm>
          </p:grpSpPr>
          <p:sp>
            <p:nvSpPr>
              <p:cNvPr id="122" name=""/>
              <p:cNvSpPr/>
              <p:nvPr/>
            </p:nvSpPr>
            <p:spPr>
              <a:xfrm>
                <a:off x="3097080" y="30477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00680" y="2965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3097080" y="4545000"/>
            <a:ext cx="2265480" cy="459720"/>
            <a:chOff x="3097080" y="4545000"/>
            <a:chExt cx="2265480" cy="459720"/>
          </a:xfrm>
        </p:grpSpPr>
        <p:grpSp>
          <p:nvGrpSpPr>
            <p:cNvPr id="125" name=""/>
            <p:cNvGrpSpPr/>
            <p:nvPr/>
          </p:nvGrpSpPr>
          <p:grpSpPr>
            <a:xfrm>
              <a:off x="3097080" y="4545000"/>
              <a:ext cx="360360" cy="459720"/>
              <a:chOff x="3097080" y="4545000"/>
              <a:chExt cx="360360" cy="459720"/>
            </a:xfrm>
          </p:grpSpPr>
          <p:sp>
            <p:nvSpPr>
              <p:cNvPr id="126" name=""/>
              <p:cNvSpPr/>
              <p:nvPr/>
            </p:nvSpPr>
            <p:spPr>
              <a:xfrm>
                <a:off x="3097080" y="460368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98520" y="4545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574440" y="45450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049640" y="4545000"/>
              <a:ext cx="360360" cy="459720"/>
              <a:chOff x="4049640" y="4545000"/>
              <a:chExt cx="360360" cy="459720"/>
            </a:xfrm>
          </p:grpSpPr>
          <p:sp>
            <p:nvSpPr>
              <p:cNvPr id="130" name=""/>
              <p:cNvSpPr/>
              <p:nvPr/>
            </p:nvSpPr>
            <p:spPr>
              <a:xfrm>
                <a:off x="4049640" y="460368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51080" y="4545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527360" y="4545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002200" y="4545000"/>
              <a:ext cx="360360" cy="459720"/>
              <a:chOff x="5002200" y="4545000"/>
              <a:chExt cx="360360" cy="459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02200" y="460368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03640" y="4545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097080" y="5027760"/>
            <a:ext cx="2266920" cy="461160"/>
            <a:chOff x="3097080" y="5027760"/>
            <a:chExt cx="2266920" cy="461160"/>
          </a:xfrm>
        </p:grpSpPr>
        <p:grpSp>
          <p:nvGrpSpPr>
            <p:cNvPr id="137" name=""/>
            <p:cNvGrpSpPr/>
            <p:nvPr/>
          </p:nvGrpSpPr>
          <p:grpSpPr>
            <a:xfrm>
              <a:off x="4049640" y="5027760"/>
              <a:ext cx="360360" cy="459720"/>
              <a:chOff x="4049640" y="5027760"/>
              <a:chExt cx="36036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4049640" y="51102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53240" y="5027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097080" y="5027760"/>
              <a:ext cx="360360" cy="459720"/>
              <a:chOff x="3097080" y="5027760"/>
              <a:chExt cx="3603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3097080" y="50864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98520" y="50277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574440" y="50277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920" y="502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003640" y="5029200"/>
              <a:ext cx="360360" cy="459720"/>
              <a:chOff x="5003640" y="5029200"/>
              <a:chExt cx="360360" cy="459720"/>
            </a:xfrm>
          </p:grpSpPr>
          <p:sp>
            <p:nvSpPr>
              <p:cNvPr id="146" name=""/>
              <p:cNvSpPr/>
              <p:nvPr/>
            </p:nvSpPr>
            <p:spPr>
              <a:xfrm>
                <a:off x="5003640" y="511164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07240" y="5029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3097080" y="5511960"/>
            <a:ext cx="2266920" cy="459720"/>
            <a:chOff x="3097080" y="5511960"/>
            <a:chExt cx="2266920" cy="459720"/>
          </a:xfrm>
        </p:grpSpPr>
        <p:grpSp>
          <p:nvGrpSpPr>
            <p:cNvPr id="149" name=""/>
            <p:cNvGrpSpPr/>
            <p:nvPr/>
          </p:nvGrpSpPr>
          <p:grpSpPr>
            <a:xfrm>
              <a:off x="5003640" y="5511960"/>
              <a:ext cx="360360" cy="459720"/>
              <a:chOff x="5003640" y="5511960"/>
              <a:chExt cx="3603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5003640" y="55944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7240" y="55119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049640" y="5511960"/>
              <a:ext cx="360360" cy="459720"/>
              <a:chOff x="4049640" y="5511960"/>
              <a:chExt cx="360360" cy="459720"/>
            </a:xfrm>
          </p:grpSpPr>
          <p:sp>
            <p:nvSpPr>
              <p:cNvPr id="153" name=""/>
              <p:cNvSpPr/>
              <p:nvPr/>
            </p:nvSpPr>
            <p:spPr>
              <a:xfrm>
                <a:off x="4049640" y="55706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51080" y="55119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573000" y="55119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27360" y="5511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097080" y="5511960"/>
              <a:ext cx="360360" cy="459720"/>
              <a:chOff x="3097080" y="5511960"/>
              <a:chExt cx="360360" cy="459720"/>
            </a:xfrm>
          </p:grpSpPr>
          <p:sp>
            <p:nvSpPr>
              <p:cNvPr id="158" name=""/>
              <p:cNvSpPr/>
              <p:nvPr/>
            </p:nvSpPr>
            <p:spPr>
              <a:xfrm>
                <a:off x="3097080" y="55944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00680" y="55119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3097080" y="5996160"/>
            <a:ext cx="2265480" cy="459720"/>
            <a:chOff x="3097080" y="5996160"/>
            <a:chExt cx="2265480" cy="459720"/>
          </a:xfrm>
        </p:grpSpPr>
        <p:grpSp>
          <p:nvGrpSpPr>
            <p:cNvPr id="161" name=""/>
            <p:cNvGrpSpPr/>
            <p:nvPr/>
          </p:nvGrpSpPr>
          <p:grpSpPr>
            <a:xfrm>
              <a:off x="4049640" y="5996160"/>
              <a:ext cx="360360" cy="459720"/>
              <a:chOff x="4049640" y="5996160"/>
              <a:chExt cx="360360" cy="459720"/>
            </a:xfrm>
          </p:grpSpPr>
          <p:sp>
            <p:nvSpPr>
              <p:cNvPr id="162" name=""/>
              <p:cNvSpPr/>
              <p:nvPr/>
            </p:nvSpPr>
            <p:spPr>
              <a:xfrm>
                <a:off x="4049640" y="60786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3240" y="5996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002200" y="5996160"/>
              <a:ext cx="360360" cy="459720"/>
              <a:chOff x="5002200" y="5996160"/>
              <a:chExt cx="360360" cy="459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002200" y="60548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03640" y="59961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573000" y="59961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27360" y="5996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097080" y="5996160"/>
              <a:ext cx="360360" cy="459720"/>
              <a:chOff x="3097080" y="5996160"/>
              <a:chExt cx="360360" cy="459720"/>
            </a:xfrm>
          </p:grpSpPr>
          <p:sp>
            <p:nvSpPr>
              <p:cNvPr id="170" name=""/>
              <p:cNvSpPr/>
              <p:nvPr/>
            </p:nvSpPr>
            <p:spPr>
              <a:xfrm>
                <a:off x="3097080" y="60786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00680" y="5996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8366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28526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the multiplication square for -5 Up 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304040" y="115920"/>
            <a:ext cx="576360" cy="576360"/>
            <a:chOff x="7304040" y="115920"/>
            <a:chExt cx="576360" cy="57636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7364520" y="17136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304040" y="115920"/>
              <a:ext cx="576360" cy="57636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48680" y="168120"/>
              <a:ext cx="468000" cy="468360"/>
            </a:xfrm>
            <a:prstGeom prst="ellipse">
              <a:avLst/>
            </a:prstGeom>
            <a:noFill/>
            <a:ln w="255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68565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Ordered multiplicatio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927000"/>
            <a:ext cx="8491320" cy="515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ShockwaveFlash1"/>
          <p:cNvGraphicFramePr/>
          <p:nvPr/>
        </p:nvGraphicFramePr>
        <p:xfrm>
          <a:off x="0" y="914400"/>
          <a:ext cx="9144000" cy="51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91440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7"/>
          <a:srcRect l="3345" t="15471" r="3345" b="13976"/>
          <a:stretch/>
        </p:blipFill>
        <p:spPr>
          <a:xfrm>
            <a:off x="324000" y="907920"/>
            <a:ext cx="8569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8601120" cy="4600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79280" y="6078600"/>
            <a:ext cx="542880" cy="576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3710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Number sp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763120" cy="5007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181480" y="3505320"/>
            <a:ext cx="609840" cy="60948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952880"/>
            <a:ext cx="60984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3809880"/>
            <a:ext cx="60984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05720" y="22096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1219320"/>
            <a:ext cx="609480" cy="60948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12952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2096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809880"/>
            <a:ext cx="60984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2590920"/>
            <a:ext cx="609480" cy="60948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3429000"/>
            <a:ext cx="609840" cy="60948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9528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35812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7733000">
            <a:off x="2171880" y="289512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9400" y="2286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9311600">
            <a:off x="3123720" y="171288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4680" y="137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2600">
            <a:off x="4684320" y="110808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11240" y="1295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413800">
            <a:off x="6248160" y="167616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980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4905600">
            <a:off x="7048440" y="308592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8760" y="3886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rot="18982800">
            <a:off x="6628320" y="4572000"/>
            <a:ext cx="685800" cy="4572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5032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rot="15000">
            <a:off x="5203440" y="5181480"/>
            <a:ext cx="685800" cy="4572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4420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rot="4399800">
            <a:off x="3923280" y="4343040"/>
            <a:ext cx="685800" cy="4572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58400" y="3505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9311600">
            <a:off x="4266720" y="289548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4560" y="266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3493800">
            <a:off x="5752800" y="316224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26960" y="3886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rot="2148600">
            <a:off x="4874400" y="4114440"/>
            <a:ext cx="763560" cy="457200"/>
          </a:xfrm>
          <a:custGeom>
            <a:avLst/>
            <a:gdLst>
              <a:gd name="textAreaLeft" fmla="*/ -360 w 763560"/>
              <a:gd name="textAreaRight" fmla="*/ 763560 w 76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92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8-12-09T22:48:06Z</dcterms:modified>
  <cp:revision>4</cp:revision>
  <dc:subject/>
  <dc:title>Slide 1</dc:title>
</cp:coreProperties>
</file>